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1EF-A4DB-412B-89B9-B6FC84D10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2B4-AA75-41BF-A188-5BA20812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6C1-B4E8-46ED-B600-8A453E2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238-A32F-4BD2-9234-1AD343DF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C22-4899-4CAB-AB0B-44C26D3D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49B-D94B-4F86-B701-28140E2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2F4-15B8-4D69-9DA0-49301C6E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1E8-7088-4422-B960-C23C75D7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37B-909D-4F83-BA7B-A0CC38F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342-8B1A-42C1-8AC9-1286EF8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78-431A-4D79-8A1D-34FAD34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287-D9F3-416E-B8CD-83B07238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8EC-13BE-496F-A062-1843FA1E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0603-1ADA-4642-96E0-FA3CB684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ndara"/>
              </a:rPr>
              <a:t>F.I.R.S.T.  Team  Fall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6044400"/>
            <a:ext cx="762120" cy="24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6172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andara"/>
              </a:rPr>
              <a:t>   </a:t>
            </a:r>
            <a:r>
              <a:rPr b="0" lang="en-GB" sz="1800" spc="-1" strike="noStrike">
                <a:solidFill>
                  <a:srgbClr val="808080"/>
                </a:solidFill>
                <a:latin typeface="Candara"/>
              </a:rPr>
              <a:t>Evan Zasoski                 S t e p h a n i e  N g u y e n                  Hui C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85800"/>
            <a:ext cx="990720" cy="99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752480"/>
            <a:ext cx="990720" cy="99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819520"/>
            <a:ext cx="990720" cy="9903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86200"/>
            <a:ext cx="990720" cy="99072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952880"/>
            <a:ext cx="990720" cy="99072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066680"/>
            <a:ext cx="1447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14784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26708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518148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600280" cy="213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43200" y="1369800"/>
            <a:ext cx="6172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blem of Wait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positive di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information, instruction and communication for pat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amil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design solution to satis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esthetic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and furniture are hard to disin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PROBLEM AND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235400"/>
            <a:ext cx="5943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esign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and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information to facilitate check-in process and make care process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sthetically pleasing/erg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isinfect/c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2590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F.I.R.S.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3505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What is in the F.I.R.S.T inte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 Tac Toe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arium Expl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mon causes of hospital visits, ie.  broken arms, asthma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asic process for hospital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nowledge about how to keep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328920"/>
            <a:ext cx="2438280" cy="16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68200" y="1370160"/>
            <a:ext cx="38318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ig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all p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balls with sensor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I.R.S.T interactiv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l mounted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V light underneath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N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principles of a waiting area with a play ground to appeal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information for the children presented in non conventional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learning and entertaining in healthcare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o build sense of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isk of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40320"/>
            <a:ext cx="822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Futur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rge the database of the F.I.R.S.T interface (include more knowledge about self care and prevent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 the ball to facilitate self check-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instant contact between kids and their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1:50:34Z</dcterms:created>
  <dc:creator>HCAI3</dc:creator>
  <dc:description/>
  <dc:language>en-US</dc:language>
  <cp:lastModifiedBy>HCAI3</cp:lastModifiedBy>
  <dcterms:modified xsi:type="dcterms:W3CDTF">2007-12-08T02:43:20Z</dcterms:modified>
  <cp:revision>22</cp:revision>
  <dc:subject/>
  <dc:title>Slide 1</dc:title>
</cp:coreProperties>
</file>